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E3F-00DF-4B9A-AE9F-81EB33B3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B96-1AB9-4A4B-8218-94B6F4E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AED-B62F-44C2-A9DF-723D42AD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F89-FC68-41E3-B966-71D1A8B6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631-4756-469B-A88B-FBFCB5A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E42-AF7B-4709-BF5D-28B6D8C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BC0-45B6-4630-8365-51719DC2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37B-E538-40FA-BE99-40E0C1D2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90F-4AF1-4FE2-8224-7D3A731A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A7A-A171-46A0-88C3-D595927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FB5-BF9B-4A7C-A45D-0F8F5EE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987-B5EE-4406-9CBA-7E47FBE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8769-0BE2-4D0F-AAD6-CD012B8D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836640"/>
            <a:ext cx="784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836640"/>
            <a:ext cx="784836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principles of training and training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784836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wo methods of gathering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wo method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ree 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836640"/>
            <a:ext cx="7848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o improve fitness you must train ove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-longed period of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an our training we MUST take into account three principles.  What are the three principles of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54936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836640"/>
            <a:ext cx="784872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hould we ensure training 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ic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three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765000"/>
            <a:ext cx="784836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essive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course notes to gain definitions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7650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er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we ensure the effects of our training are mainta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765000"/>
            <a:ext cx="78483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now use our knowledge of the principles of training and the factors which affect performance to design a training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raining programme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15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765000"/>
            <a:ext cx="7848360" cy="65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ue Wednesday 29</a:t>
            </a:r>
            <a:r>
              <a:rPr b="1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swer the followin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principles of training you used to plan your training programme to improve your chosen aspect of fitnes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your training programme for your chosen aspect of fit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0:48:31Z</dcterms:created>
  <dc:creator>hamiltonp</dc:creator>
  <dc:description/>
  <dc:language>en-US</dc:language>
  <cp:lastModifiedBy>hamiltonp</cp:lastModifiedBy>
  <dcterms:modified xsi:type="dcterms:W3CDTF">2010-09-21T08:24:36Z</dcterms:modified>
  <cp:revision>20</cp:revision>
  <dc:subject/>
  <dc:title>Slide 1</dc:title>
</cp:coreProperties>
</file>